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DF0-BB6F-48E6-99A0-33DFDD8C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70C-6794-465B-B5E8-7DE246E4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A0CD-CB08-487F-9832-FEFBDDEF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B24-D119-413B-9B95-09AE3FB34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8861-188C-4E72-A7F2-7C169F5B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8837-5413-42CF-A11A-65134389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A0F-29DC-43D4-9FF3-9AA286EF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52F-DB81-45FD-A394-8713FDD8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AA09-C4F6-4CEF-BE18-26222286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FB0-3A7E-4C71-8671-920E87F2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84C6-C276-4FE1-8C3A-51B6DEAE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EC0-2A9D-42E6-9950-3E4E36C2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5A62-7DC4-4CE3-B80B-E9C83B53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3D2-E12C-4B21-AD4A-39684384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51E-2B56-40A0-A310-DF1A1F07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1DE-36D0-4243-B77E-49180F38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4B3-0B86-4197-971C-D5217BC2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CB7-9363-4AE5-8C37-D1258FB1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96C-F64B-403F-A2AD-98967F8A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EC8-EA4E-4CA5-8E66-5FE16658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4AD-6130-43D2-9C50-D847CCBA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E67-4051-4418-867A-1412081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06C-1822-41D0-B4D0-9B0B692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FCC-91B6-45DE-9A8A-6399D9E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3F3-06A7-4CF7-86D6-F508CD4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7FF-3717-4673-B142-DC95DF6F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>
            <a:hlinkClick r:id="rId1" action="ppaction://hlinksldjump"/>
          </p:cNvPr>
          <p:cNvSpPr/>
          <p:nvPr/>
        </p:nvSpPr>
        <p:spPr>
          <a:xfrm>
            <a:off x="3657600" y="4952880"/>
            <a:ext cx="182880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9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 </cp:lastModifiedBy>
  <dcterms:modified xsi:type="dcterms:W3CDTF">2010-08-05T10:59:54Z</dcterms:modified>
  <cp:revision>26</cp:revision>
  <dc:subject/>
  <dc:title>No Slide Title</dc:title>
</cp:coreProperties>
</file>